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F63-A6DD-4306-AAF0-F8684F6B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CF3-EF80-448C-A642-43D4D86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FDE-28F0-4496-9329-14CD7166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144-4BD3-4372-9F85-A67ACB9E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EFB-C6D5-43C7-A819-3A10FC9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5BD-3506-421E-A205-9E60F7D9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A06-AF91-4205-9089-3556359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49D-FF2B-4D92-9464-5B32F657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AC8-489B-451C-941C-3F23BECA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C31-3DAF-47E0-BEF9-6BC1670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370-32CA-4BC7-9A30-4B9E08D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CA6-543E-408A-8B9B-0F20D0A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C25-D6C6-4F41-90FA-8B8DF07F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olpc" TargetMode="External"/><Relationship Id="rId2" Type="http://schemas.openxmlformats.org/officeDocument/2006/relationships/hyperlink" Target="http://www.youtube.com/olpc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Goals &amp; Outcom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earn about &amp; become involved in OLPC efforts locally &amp; ab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lf-guided research &amp; interests will determine content area fo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mmunicate with International network for expert advice and exchange of ideas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ollaborate with peers on project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llaborate with International community &amp; several recognized &amp; established groups/or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velop prototypes for applications in the Sugar environment for future full development roll-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Assess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based on attendance &amp; in/out of class particip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ompletion &amp; quality of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effective collaboration with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32767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reative problem solving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quality of prototypes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owerPoint Created by Eric M. 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ro OLPC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Thank You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9072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657600" y="3581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Stephen Jaco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Eric M. Gr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9999"/>
                </a:solidFill>
                <a:latin typeface="Arial"/>
              </a:rPr>
              <a:t>Lab for Technological Litera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20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00"/>
                </a:solidFill>
                <a:latin typeface="Arial"/>
              </a:rPr>
              <a:t>Student Introduc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aj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Year @ R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nterest in OLP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What do you want to gain from semina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Please tell us you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wiki.laptop.org/go/OLPC_Rochester%2C_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1320" y="19810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OLPC Wiki-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6960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Fedora Wi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800" y="2057400"/>
            <a:ext cx="46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s://fedoraproject.org/wiki/Fedora_Project_W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Sugar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4760" y="2057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://sugarlabs.org/go/Mat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delicious.com/maths4olpc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3600" y="19447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Delicious Bookmark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297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Conten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&amp; 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th Grade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am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LPC/Sugar/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edora &amp; IRC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nux/Unix/Open Source/Creative Com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t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19810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29400" y="3886200"/>
            <a:ext cx="193356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6:27:53Z</dcterms:created>
  <dc:creator>Sam Hoover</dc:creator>
  <dc:description/>
  <dc:language>en-US</dc:language>
  <cp:lastModifiedBy>Sam Hoover</cp:lastModifiedBy>
  <dcterms:modified xsi:type="dcterms:W3CDTF">2009-03-13T08:35:17Z</dcterms:modified>
  <cp:revision>28</cp:revision>
  <dc:subject/>
  <dc:title>PowerPoint Presentation</dc:title>
</cp:coreProperties>
</file>